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B69A-0997-46E1-89C7-F3E7E9271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00B8-A269-4308-A7A3-4351EEC5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177C-5FCB-46A5-AA67-BA7DE7C30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5601-B513-4A27-AD8D-9204959D7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F5D1-57C4-4FF5-A7C3-35C86BDEF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A6F9-8D6C-4279-BF18-08B854B5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4CA5-480C-4083-B687-F28FD12B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E661-0CBC-4990-96E9-8B41653F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3E69-D121-4561-8360-5A6BAC8E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C885-9AF9-4920-9C5B-7D7B944C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4464-7FF6-460A-9F0A-E5B98AF4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609D-9E38-4776-9D1F-B70CBAF8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3A8D-998A-489E-8B44-0F873D46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3AF3-FC36-4B18-87F2-9364C605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D754-CABA-4E16-80C7-B21B7F75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E8FE-3524-4055-880C-B6F2EEB6C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875C-A55E-4E78-B478-EC7DB7BC9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BD96-1CE3-4642-94BA-2BA6CEA0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C9F2-69A5-475B-902D-416DD91C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8650-677A-4564-9DEB-DA669E66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C1C5-3756-41EE-B9AD-D803104D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9325-B7DD-40F8-979A-E4091C34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94FF-AFD4-4BE9-808B-6058031C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9B1B-486C-40CF-A341-12B9A819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571C-CB3F-4353-980A-9F213FFB3A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B65D-6AC5-4E28-B255-8B442630EE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Cooper Black"/>
              </a:rPr>
              <a:t>Biological Sci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Cooper Black"/>
              <a:ea typeface="Cooper Black"/>
            </a:endParaRPr>
          </a:p>
        </p:txBody>
      </p:sp>
      <p:pic>
        <p:nvPicPr>
          <p:cNvPr id="212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213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2892ac"/>
                </a:solidFill>
                <a:latin typeface="Cooper Black"/>
              </a:rPr>
              <a:t>Biochemistry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2892ac"/>
              </a:solidFill>
              <a:latin typeface="Cooper Black"/>
              <a:ea typeface="Cooper Black"/>
            </a:endParaRPr>
          </a:p>
        </p:txBody>
      </p:sp>
      <p:pic>
        <p:nvPicPr>
          <p:cNvPr id="214" name="Picture 8" descr="C:\Users\Liz\AppData\Local\Microsoft\Windows\Temporary Internet Files\Content.IE5\CPHVRLKO\MCj02296450000[1].wmf"/>
          <p:cNvPicPr/>
          <p:nvPr/>
        </p:nvPicPr>
        <p:blipFill>
          <a:blip r:embed="rId2"/>
          <a:stretch/>
        </p:blipFill>
        <p:spPr>
          <a:xfrm>
            <a:off x="685800" y="3276720"/>
            <a:ext cx="25909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four most abundant elements in living cells?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, oxygen, hydrogen, nitrog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15:38:46Z</dcterms:created>
  <dc:creator>WaiverDay</dc:creator>
  <dc:description/>
  <dc:language>en-US</dc:language>
  <cp:lastModifiedBy>PritchaJ</cp:lastModifiedBy>
  <dcterms:modified xsi:type="dcterms:W3CDTF">2011-06-01T13:52:28Z</dcterms:modified>
  <cp:revision>3</cp:revision>
  <dc:subject/>
  <dc:title>Biochemistry Bellringer #4</dc:title>
</cp:coreProperties>
</file>